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50A73-CE98-4561-900D-61A49E26F7D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astal 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nd Dune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oastal Environ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and Dune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stal 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e latitudes. Accumulation of windblown sediment needed in backshore z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K - around 7-8% of coast has vegetated dunes.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s vegetation, low rainfall, strong winds and abundant s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stal 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e latitudes. Accumulation of windblown sediment needed in backshore z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K - around 7-8% of coast has vegetated dunes.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s vegetation, low rainfall, strong winds and abundant s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d Mo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d blown downwind. Transfers energy through other gra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5% of sand moved by    this meth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Cr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product of sal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ed along sand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t be d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d Mo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d blown downwind. Transfers energy through other gra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5% of sand moved by    this meth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Cr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product of sal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ed along sand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t be d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mbryo 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bstacle forces deposition of s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r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e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mbryo dunes coalesce later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rey 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cludes 1st, 2nd, 3rd dune ridges etc. Growth of fore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mbryo 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bstacle forces deposition of s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r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e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mbryo dunes coalesce later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rey 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cludes 1st, 2nd, 3rd dune ridges etc. Growth of fore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urther Class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y Dunes eg. Stud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it Dunes eg. Ynyslas, see 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ndshore Dunes eg. Merthyr Maw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ess or Forland Dunes eg. Tentsmu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fshore Island Dunes eg. Scott 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bbc.co.uk/wales/mid/fun/wallpaper/pages/ynyslas_sand_dunes.s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nyslas 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urther Class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y Dunes eg. Stud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it Dunes eg. Ynyslas, see 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ndshore Dunes eg. Merthyr Maw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ess or Forland Dunes eg. Tentsmu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fshore Island Dunes eg. Scott 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bbc.co.uk/wales/mid/fun/wallpaper/pages/ynyslas_sand_dunes.s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nyslas 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0B32-FA1C-447E-A9B7-88BCCDCE9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1C1F-EFF6-433C-A99E-4FA1515FA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E56B-26F8-449E-9EBF-BB1B80D52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D25B-8426-4D9F-8817-270BFEE9C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88B2-29A1-440B-A2E3-4A5A461D2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B483-2237-4998-A3C1-C0B0512B1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6E02-C774-49E5-A2E2-A67CF1B12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B74A-8E42-4F3A-AF7F-F01D0C36F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FF1C-74DC-4988-915C-9D2E34272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E7BA-7DEF-44C0-A790-DFFD15974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D6F9-C31B-43E7-9514-727833ABB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94F7-E171-49EC-A744-EB796322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1956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167C0-3157-4F75-AE53-0F7A09E673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astal Environ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Times New Roman"/>
              </a:rPr>
              <a:t>Sand Dune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Місце для нижнього колонтитула 4"/>
          <p:cNvSpPr/>
          <p:nvPr/>
        </p:nvSpPr>
        <p:spPr>
          <a:xfrm>
            <a:off x="601992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Місце для номера слайда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091DF-C177-4913-9275-8B8320254B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astal Du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Times New Roman"/>
              </a:rPr>
              <a:t>Temperate latitudes. Accumulation of windblown sediment needed in backshore z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658800" y="3581280"/>
            <a:ext cx="7875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285480">
              <a:spcBef>
                <a:spcPts val="1500"/>
              </a:spcBef>
              <a:buClr>
                <a:srgbClr val="000099"/>
              </a:buClr>
              <a:buFont typeface="Times New Roman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Times New Roman"/>
              </a:rPr>
              <a:t>UK - around 7-8% of coast has vegetated dunes.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04800" y="4800600"/>
            <a:ext cx="8005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Times New Roman"/>
              </a:rPr>
              <a:t>Needs vegetation, low rainfall, strong winds and abundant s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" dur="1" fill="hold"/>
                                  <p:tgtEl>
                                    <p:spTgt spid="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Місце для нижнього колонтитула 5"/>
          <p:cNvSpPr/>
          <p:nvPr/>
        </p:nvSpPr>
        <p:spPr>
          <a:xfrm>
            <a:off x="601992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омера слайда 6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D18D2-0BBA-4617-8EE1-8E3618F239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and Mov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4419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Sal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sand blown downwind. Transfers energy through other grai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75% of sand moved by    this meth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Surface Cr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By product of sal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Pushed along sand su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Must be d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Object 4"/>
          <p:cNvGraphicFramePr/>
          <p:nvPr/>
        </p:nvGraphicFramePr>
        <p:xfrm>
          <a:off x="4821120" y="1752480"/>
          <a:ext cx="432288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1120" y="1752480"/>
                    <a:ext cx="432288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r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Місце для нижнього колонтитула 5"/>
          <p:cNvSpPr/>
          <p:nvPr/>
        </p:nvSpPr>
        <p:spPr>
          <a:xfrm>
            <a:off x="601992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Місце для номера слайда 6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F964A-3742-4479-A754-BE59F6F487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380988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Embryo du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obstacle forces deposition of s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Freeform 8"/>
          <p:cNvSpPr/>
          <p:nvPr/>
        </p:nvSpPr>
        <p:spPr>
          <a:xfrm>
            <a:off x="4648320" y="4030560"/>
            <a:ext cx="4306680" cy="1354320"/>
          </a:xfrm>
          <a:custGeom>
            <a:avLst/>
            <a:gdLst/>
            <a:ahLst/>
            <a:rect l="l" t="t" r="r" b="b"/>
            <a:pathLst>
              <a:path w="2713" h="853">
                <a:moveTo>
                  <a:pt x="0" y="853"/>
                </a:moveTo>
                <a:cubicBezTo>
                  <a:pt x="168" y="785"/>
                  <a:pt x="336" y="717"/>
                  <a:pt x="432" y="661"/>
                </a:cubicBezTo>
                <a:cubicBezTo>
                  <a:pt x="528" y="605"/>
                  <a:pt x="528" y="533"/>
                  <a:pt x="576" y="517"/>
                </a:cubicBezTo>
                <a:cubicBezTo>
                  <a:pt x="624" y="501"/>
                  <a:pt x="672" y="573"/>
                  <a:pt x="720" y="565"/>
                </a:cubicBezTo>
                <a:cubicBezTo>
                  <a:pt x="768" y="557"/>
                  <a:pt x="816" y="477"/>
                  <a:pt x="864" y="469"/>
                </a:cubicBezTo>
                <a:cubicBezTo>
                  <a:pt x="912" y="461"/>
                  <a:pt x="960" y="541"/>
                  <a:pt x="1008" y="517"/>
                </a:cubicBezTo>
                <a:cubicBezTo>
                  <a:pt x="1056" y="493"/>
                  <a:pt x="1096" y="325"/>
                  <a:pt x="1152" y="325"/>
                </a:cubicBezTo>
                <a:cubicBezTo>
                  <a:pt x="1208" y="325"/>
                  <a:pt x="1264" y="557"/>
                  <a:pt x="1344" y="517"/>
                </a:cubicBezTo>
                <a:cubicBezTo>
                  <a:pt x="1424" y="477"/>
                  <a:pt x="1566" y="170"/>
                  <a:pt x="1632" y="85"/>
                </a:cubicBezTo>
                <a:cubicBezTo>
                  <a:pt x="1698" y="0"/>
                  <a:pt x="1707" y="5"/>
                  <a:pt x="1739" y="5"/>
                </a:cubicBezTo>
                <a:cubicBezTo>
                  <a:pt x="1771" y="5"/>
                  <a:pt x="1786" y="8"/>
                  <a:pt x="1824" y="85"/>
                </a:cubicBezTo>
                <a:cubicBezTo>
                  <a:pt x="1862" y="162"/>
                  <a:pt x="1920" y="413"/>
                  <a:pt x="1968" y="469"/>
                </a:cubicBezTo>
                <a:cubicBezTo>
                  <a:pt x="2016" y="525"/>
                  <a:pt x="2064" y="485"/>
                  <a:pt x="2112" y="421"/>
                </a:cubicBezTo>
                <a:cubicBezTo>
                  <a:pt x="2160" y="357"/>
                  <a:pt x="2200" y="141"/>
                  <a:pt x="2256" y="85"/>
                </a:cubicBezTo>
                <a:cubicBezTo>
                  <a:pt x="2312" y="29"/>
                  <a:pt x="2392" y="21"/>
                  <a:pt x="2448" y="85"/>
                </a:cubicBezTo>
                <a:cubicBezTo>
                  <a:pt x="2504" y="149"/>
                  <a:pt x="2548" y="415"/>
                  <a:pt x="2592" y="469"/>
                </a:cubicBezTo>
                <a:cubicBezTo>
                  <a:pt x="2636" y="523"/>
                  <a:pt x="2688" y="425"/>
                  <a:pt x="2713" y="41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4724280" y="2743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mbr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11"/>
          <p:cNvSpPr/>
          <p:nvPr/>
        </p:nvSpPr>
        <p:spPr>
          <a:xfrm>
            <a:off x="4648320" y="388620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13"/>
          <p:cNvSpPr/>
          <p:nvPr/>
        </p:nvSpPr>
        <p:spPr>
          <a:xfrm flipV="1">
            <a:off x="6095880" y="365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4"/>
          <p:cNvSpPr/>
          <p:nvPr/>
        </p:nvSpPr>
        <p:spPr>
          <a:xfrm flipV="1">
            <a:off x="6858000" y="365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15"/>
          <p:cNvSpPr/>
          <p:nvPr/>
        </p:nvSpPr>
        <p:spPr>
          <a:xfrm flipV="1">
            <a:off x="8686800" y="365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6"/>
          <p:cNvSpPr/>
          <p:nvPr/>
        </p:nvSpPr>
        <p:spPr>
          <a:xfrm>
            <a:off x="609588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7"/>
          <p:cNvSpPr/>
          <p:nvPr/>
        </p:nvSpPr>
        <p:spPr>
          <a:xfrm>
            <a:off x="7315200" y="2743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r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18"/>
          <p:cNvSpPr/>
          <p:nvPr/>
        </p:nvSpPr>
        <p:spPr>
          <a:xfrm flipH="1">
            <a:off x="4571640" y="5105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19"/>
          <p:cNvSpPr/>
          <p:nvPr/>
        </p:nvSpPr>
        <p:spPr>
          <a:xfrm flipV="1">
            <a:off x="4648320" y="365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20"/>
          <p:cNvSpPr/>
          <p:nvPr/>
        </p:nvSpPr>
        <p:spPr>
          <a:xfrm>
            <a:off x="5181480" y="3124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21"/>
          <p:cNvSpPr/>
          <p:nvPr/>
        </p:nvSpPr>
        <p:spPr>
          <a:xfrm>
            <a:off x="6477120" y="3200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22"/>
          <p:cNvSpPr/>
          <p:nvPr/>
        </p:nvSpPr>
        <p:spPr>
          <a:xfrm>
            <a:off x="7772400" y="3200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3"/>
          <p:cNvSpPr/>
          <p:nvPr/>
        </p:nvSpPr>
        <p:spPr>
          <a:xfrm>
            <a:off x="685800" y="3124080"/>
            <a:ext cx="380988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Foredu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15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embryo dunes coalesce later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6"/>
          <p:cNvSpPr/>
          <p:nvPr/>
        </p:nvSpPr>
        <p:spPr>
          <a:xfrm>
            <a:off x="762120" y="4572000"/>
            <a:ext cx="373356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Grey du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15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includes 1st, 2nd, 3rd dune ridges etc. Growth of foredu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9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8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Місце для нижнього колонтитула 4"/>
          <p:cNvSpPr/>
          <p:nvPr/>
        </p:nvSpPr>
        <p:spPr>
          <a:xfrm>
            <a:off x="601992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Місце для номера слайда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FBBEE-8C61-4892-8AC9-63B589CECC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ass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Object 3"/>
          <p:cNvGraphicFramePr/>
          <p:nvPr/>
        </p:nvGraphicFramePr>
        <p:xfrm>
          <a:off x="704880" y="2028960"/>
          <a:ext cx="7761240" cy="456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2028960"/>
                    <a:ext cx="7761240" cy="456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r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Місце для нижнього колонтитула 5"/>
          <p:cNvSpPr/>
          <p:nvPr/>
        </p:nvSpPr>
        <p:spPr>
          <a:xfrm>
            <a:off x="601992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Місце для номера слайда 6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287E8-D672-452F-90F6-C0600D2901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urther Class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Bay Dunes eg. Stud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Spit Dunes eg. Ynyslas, see 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Hindshore Dunes eg. Merthyr Maw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Ness or Forland Dunes eg. Tentsmu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Offshore Island Dunes eg. Scott H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Object 5"/>
          <p:cNvGraphicFramePr/>
          <p:nvPr/>
        </p:nvGraphicFramePr>
        <p:xfrm>
          <a:off x="4724280" y="3352680"/>
          <a:ext cx="2810160" cy="211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3352680"/>
                    <a:ext cx="2810160" cy="21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Text Box 6"/>
          <p:cNvSpPr/>
          <p:nvPr/>
        </p:nvSpPr>
        <p:spPr>
          <a:xfrm>
            <a:off x="4648320" y="5486400"/>
            <a:ext cx="3504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http://www.bbc.co.uk/wales/mid/fun/wallpaper/pages/ynyslas_sand_dunes.s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5029200" y="30481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Ynyslas Du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8001000" y="3657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u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9"/>
          <p:cNvSpPr/>
          <p:nvPr/>
        </p:nvSpPr>
        <p:spPr>
          <a:xfrm flipH="1">
            <a:off x="6476760" y="3962520"/>
            <a:ext cx="152388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1T19:34:56Z</dcterms:created>
  <dc:creator>Lindsey Wood</dc:creator>
  <dc:description/>
  <dc:language>en-US</dc:language>
  <cp:lastModifiedBy>RomaK</cp:lastModifiedBy>
  <dcterms:modified xsi:type="dcterms:W3CDTF">2015-09-04T09:41:05Z</dcterms:modified>
  <cp:revision>39</cp:revision>
  <dc:subject/>
  <dc:title>Coastal Environments</dc:title>
</cp:coreProperties>
</file>